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1E3F-F692-414A-911B-C31401F25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6380-24C7-4DAB-A2E0-7A24DB32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D106-96F2-465D-8DF7-5ED35159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0562-8A23-4A3C-8813-19F8E6034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0302-E3EB-4F93-89CB-E849BE50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9EA1-88A2-4C19-9F95-5FA61865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F33D-9DE6-4CD0-8E63-D4EFD287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2FC7-0022-42AF-AACE-FD923549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0257-CDD9-409C-BA02-824B1B95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CA9F-3EF5-464A-8C80-AA5D940F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CE62-1375-4E3C-8E8F-ED62964E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34D2-A3DC-4AB9-BEE5-6CED32A7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52DE09F-D98B-47FA-B6A2-179DC22BD5ED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8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AMs an Introdu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peculative commen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emp4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Two very hot years had crop damage during harvest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ain0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Wide range where little difference, but very dry years may lead to a reduced yield and very wet years to an enhanced one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ain2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One very dry growing month led to a reduced yield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Year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Strongest and most consistent predictor by far.  Some evidence of a pause in new varieties during the war and immediately post-war period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0949-DDAE-4C4D-9FBE-2EB60E99000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entative inferenc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83664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gt; summary(iowa.gam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Family: gaussian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Link function: identity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Formula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Yield ~ s(Temp4, k = 5) + s(Rain0, k = 5) + s(Rain2, k = 5) +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(Year, k = 5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Parametric coefficient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stimate Std. Error t value Pr(&gt;|t|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(Intercept)   50.000      1.035   48.32   &lt;2e-1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pproximate significance of smooth term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df Est.rank      F  p-valu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(Temp4) 2.303        4  4.067   0.012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(Rain0) 2.686        4  2.343   0.085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(Rain2) 1.000        1  1.682   0.207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(Year)  3.180        4 14.477 5.02e-0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R-sq.(adj) =  0.797   Deviance explained = 85.5%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CV score = 51.074   Scale est. = 35.334    n = 33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00CF-2B71-41FC-9A63-3325D03227C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an we get to the same place with GLMs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pline terms: specified with ns(x, …) or bs(x, …), differ only in behaviour near the end poin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ay specify the knot and boundary knot positions (recommended if prediction will be needed) or the equivalent degrees of freedom (OK for exploratory purposes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ach spline term is a collection of ordinary linear terms, but the coefficients have no simple meaning and the individual significance tests are meaningless.  Best regarded as a single composite term and retained or removed as a block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7B8C-623F-4A69-8F50-737819AB6C8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31640" y="758880"/>
            <a:ext cx="8280720" cy="53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library(splines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iowa.ns &lt;- lm(Yield ~ ns(Temp4, df=3) + ns(Rain0, df=3) + ns(Rain2, df = 3) + ns(Year, df=3), Iow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termplot(iowa.ns, se=T, partial.resid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ropterm(iowa.ns, test = "F", k = log(nrow(Iowa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Yield ~ ns(Temp4, df = 3) + ns(Rain0, df = 3) + ns(Rain2, df = 3) +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ns(Year, df = 3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f Sum of Sq     RSS     AIC F Value     Pr(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lt;none&gt;                          726.26  147.47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ns(Temp4, df = 3)  3    274.60 1000.86  147.56    2.52   0.0870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ns(Rain0, df = 3)  3    332.31 1058.57  149.41    3.05   0.0523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ns(Rain2, df = 3)  3     70.61  796.87  140.04    0.65   0.5932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ns(Year, df = 3)   3   2022.93 2749.19  180.91   18.57 5.339e-0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B891-12FF-4D7A-A39A-DD8F1F9FC5DA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6767280" cy="676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348E-9F46-4C9A-9023-93836711FC04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6769080" cy="676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D00F-857B-4A98-B46D-F428FF2DE88F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nal remark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Very similar pattern to the components as for the additive mod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w clear that the term in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ain2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is not useful and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mp4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and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ain0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terms will need to be re-assesse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term in Year stands out as dominant with a clear pattern in the response curve and the partial residuals following it closel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99"/>
                </a:solidFill>
                <a:latin typeface="Arial Unicode MS"/>
              </a:rPr>
              <a:t>Small data sets like this can be very misleading!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 Extreme caution is neede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BB0D-A153-4771-B97D-4131E215064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cond example: Rock data (V&amp;R p. 233 ff)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33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Response: permeability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Predictors: area, perimeter and shape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Problem: build a predictor for log(perm) using the available predictor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ck.lm &lt;- lm(log(perm) ~ area + peri + shape, data = rock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ummary(rock.lm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Coefficient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Value Std. Error t value Pr(&gt;|t|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(Intercept)  5.3331  0.5487     9.7200  0.0000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rea  0.0005  0.0001     5.6021  0.0000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peri -0.0015  0.0002    -8.6228  0.0000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hape  1.7565  1.7559     1.0003  0.3226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8A04-95F6-494E-A96A-FC6868EEA6A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trateg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33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rock.gam &lt;- gam(log(perm) ~ s(area) + s(peri) + s(shape)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control = gam.control(maxit = 50), data = rock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summary(rock.gam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anova(rock.lm, rock.gam) </a:t>
            </a:r>
            <a:r>
              <a:rPr b="0" lang="en-AU" sz="2000" spc="-1" strike="noStrike">
                <a:solidFill>
                  <a:srgbClr val="ff0000"/>
                </a:solidFill>
                <a:latin typeface="Courier New"/>
              </a:rPr>
              <a:t># shows no improvement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ar(mfrow = c(2, 3), pty = "s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lot(rock.gam, s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rock.gam1 &lt;- gam(log(perm) ~ area + peri + s(shape), data = rock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lot(rock.gam1, s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anova(rock.lm, rock.gam1, rock.gam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519C-55EA-4F01-BD44-CF5A4858DA6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gt; summary(rock.gam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amily: gaussian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ink function: identity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mula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g(perm) ~ s(area) + s(peri) + s(shap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rametric coefficient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stimate Std. Error t value Pr(&gt;|t|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Intercept)   5.1075     0.1222   41.81   &lt;2e-1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pproximate significance of smooth term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f Est.rank      F  p-valu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(area)  1.000        1 29.878 2.09e-0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(peri)  1.000        1 72.664 7.77e-1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(shape) 1.402        3  1.324    0.27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-sq.(adj) =  0.735   Deviance explained = 75.4%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GCV score = 0.78865   Scale est. = 0.71631   n = 48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1BA7-5416-4CDE-9372-4CC1BA95671E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Overview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odel assumes that the mean response is a sum of terms each depending on (usually) a single predictor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f the     s are linear terms, this is just regress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f they are step functions – main effect of a factor term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 general they may be smooth terms, with the degree of smoothness chosen by cross valida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411280" y="2637000"/>
          <a:ext cx="2880000" cy="85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637000"/>
                    <a:ext cx="288000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1835280" y="3357720"/>
          <a:ext cx="30780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3357720"/>
                    <a:ext cx="3078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68BF-F1A8-45FA-9271-110DE632897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0033"/>
                </a:solidFill>
                <a:latin typeface="Arial Unicode MS"/>
              </a:rPr>
              <a:t>Testing lm within a gam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nova(rock.lm, rock.ga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nalysis of Variance Tabl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odel 1: log(perm) ~ area + peri + shap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odel 2: log(perm) ~ s(area) + s(peri) + s(shap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s.Df    RSS       Df Sum of Sq      F Pr(&gt;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 44.00000 31.949                                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2 43.59763 31.230  0.40237     0.719 2.4951 0.125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3F08-F02C-4F3E-A7FF-F9BCE7774B9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99"/>
                </a:solidFill>
                <a:latin typeface="Courier New"/>
              </a:rPr>
              <a:t>&gt;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ummary(rock.gam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Family: gaussian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Link function: identity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Formula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log(perm) ~ area + peri + s(shap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Parametric coefficients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          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Estimate Std. Error t value Pr(&gt;|t|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(Intercept)  5.747e+00  3.615e-01  15.896  &lt; 2e-1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area         4.727e-04  8.648e-05   5.466 2.09e-0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peri        -1.505e-03  1.766e-04  -8.524 7.77e-1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Approximate significance of smooth terms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       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edf Est.rank     F p-valu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(shape) 1.402        3 1.324   0.279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R-sq.(adj) =  0.735   Deviance explained = 75.4%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GCV score = 0.78865   Scale est. = 0.71631   n = 4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2947-C3D2-4441-A702-A2250918DAD5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7898" r="0" b="54814"/>
          <a:stretch/>
        </p:blipFill>
        <p:spPr>
          <a:xfrm>
            <a:off x="179280" y="0"/>
            <a:ext cx="8496360" cy="3168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rcRect l="0" t="54784" r="0" b="6094"/>
          <a:stretch/>
        </p:blipFill>
        <p:spPr>
          <a:xfrm>
            <a:off x="250920" y="2997360"/>
            <a:ext cx="8424720" cy="329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6614-BF6E-4262-81AD-5B7B52BC5524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omparing 3 mode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anova(rock.lm, rock.gam1, rock.gam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nalysis of Variance Tabl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1: log(perm) ~ area + peri + shap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2: log(perm) ~ area + peri + s(shap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3: log(perm) ~ s(area) + s(peri) + s(shap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Res.Df    RSS          Df  Sum of Sq      F    Pr(&gt;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1  4.4000e+01 31.949                     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2  4.3598e+01 31.230  4.0237e-01      0.719 2.4951    0.125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3  4.3598e+01 31.230 -3.5094e-06 -5.028e-06 2.0001 2.107e-0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7C74-6E9A-47B4-A68D-664DD53E8D5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Less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lthough suggestive, the curve in shape is not particularly convincing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 this case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bruto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also suggests essentially linear terms, at most, in all three variables (V&amp;R p 235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0BA0-67D9-4A4D-81DB-355C07BA810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hoices of term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 some cases the additive terms may be know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moothing splin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ocal regress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plines with fixed degrees of freedom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plines with known knots and boundary knot position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Harmonic terms, &amp;c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F7EB-E093-4074-8AA9-37B1016AABB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imilarities to, and differences from GLM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4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Additive models are analogous to regression model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Generalized additive models are akin to the GLMs – they may employ a link function to relate the linear predictor to the mean of the response, they may have a non-normal distribution, &amp;c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Fitting GAMs is the same process as fitting GLMs (but with one letter different in the function name)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e fitting process is NOT maximum likelihood if there are any smoother terms present.  A likelihood penalized by a roughness term is maximised, with the tuning constant chosen (usually) by cross-validation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Inference for GAMs is difficult and somewhat contentious.  Best regarded as an exploratory technique with standard models to follow (see example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9CC2-CC49-4D17-9ADF-E2CA721D436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ample: the Iowa wheat yield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toy example from </a:t>
            </a: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Draper N R, and Smith H, </a:t>
            </a:r>
            <a:r>
              <a:rPr b="0" i="1" lang="en-GB" sz="1800" spc="-1" strike="noStrike">
                <a:solidFill>
                  <a:srgbClr val="000099"/>
                </a:solidFill>
                <a:latin typeface="Arial Unicode MS"/>
              </a:rPr>
              <a:t>Applied regression analysis</a:t>
            </a: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, 2nd Ed., John Wiley &amp; Sons, New York, 1981.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esponse: Yield of wheat in bushels/acre for the state of Iowa for the years 1930-1962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edictors: Year (as surrogate), Rain0, 1, 2, 3, Temp1, 2, 3, 4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oblem: Build a predictor for Yield from the predictors availabl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te: with only 33 observations and 9 possible predictors some care has to be taken in choosing a model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F4F1-0C80-41D0-99E3-3467F0F1A46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initial linear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owa.lm1 &lt;- lm(Yield ~ ., Iowa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owa.step &lt;- stepAIC(iowa.lm1, scope = list(lower =  ~ Year, upper =  ~ .), k = log(nrow(Iowa)), trace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term(iowa.step, test = "F", k = log(nrow(Iowa)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orted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Yield ~ Year + Rain0 + Rain2 + Temp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f Sum of Sq      RSS      AIC  F Value      Pr(F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lt;none&gt;              1554.605 144.6140 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Temp4  1   187.951 1742.556 144.8838  3.38519 0.0764089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Rain0  1   196.008 1750.612 145.0361  3.53029 0.0707042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Rain2  1   240.204 1794.809 145.8589  4.32632 0.04679808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Year  1  1796.216 3350.821 166.4610 32.35167 0.0000042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17EC-B7DE-46FD-ADE6-BD2BC501A79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reflec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7772400" cy="49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ven with the more stringent BIC penalty on model complexity, two of the terms found are only borderline significant in the conventional sense – a consequence of the small sample siz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evertheless the terms found are tentatively realistic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Year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surrogate for crop improvemen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ain0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a measure of pre-season sowing condition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ain2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rainfall during the critical growing month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emp4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climatic conditions during harvesting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re strictly linear terms in these variables reasonable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0837-B7DF-49F6-B592-221A5C35268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dditive mode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Consider a non-parametric smoother in each term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library(mgcv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iowa.gam &lt;- gam(Yield ~ s(Temp4,k=5) + s(Rain0,k=5) + s(Rain2,k=5) + s(Year,k=5)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data = Iowa, trace=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2,2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iowa.gam, se = T, ylim = c(-30, 30), resid = TRUE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It can be important to keep the y-axes of these plots approximately the same to allow comparisons between terms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518D-1EE2-4A25-94F9-C1A689E6CCD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C1A8-3A51-486F-8119-29BAD23C395C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21T03:13:00Z</dcterms:modified>
  <cp:revision>17</cp:revision>
  <dc:subject/>
  <dc:title>S-PLUS, An Introduction to the System</dc:title>
</cp:coreProperties>
</file>